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0A4-F7AB-405C-B916-CA2D2547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E91-63A5-4CE8-9718-FC90A0FB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DBD-2D6C-4B1E-813A-17748251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648-B185-4ACC-8D02-77CD83D7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534-C0A6-4FD0-AC12-8B732A55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651-3A17-4D15-B1C8-3BA82872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C92-209A-415A-A0B7-277CB021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ECB-02DE-460F-812A-23DAF62B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B83-8C98-4DA4-B8E8-663649C6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7F4-87E3-4F29-BCE1-5B9BDA01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C8C-F7A7-45EB-AE3E-10E2FD3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E26-61EF-45A9-976C-4383E3A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383B-FA91-4F26-9F04-BC11EE1EF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CommonBulle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of reaction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reactions are reactions that will happen - but we can’t tell how f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mechanism- the steps by which a reaction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are rever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ducts accumulate they can begin to turn back into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on the rate will depend on only the amount of reactants 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measure the reactants as soon as they are m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itial rate meth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ke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entration of the products do not appear in the rate law because this is an initial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der must be determined experimentall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obtained from th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7621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Rate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find that the rate will only depend on the concentration of the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rate law 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called the rate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is the order of the reactant, usually a positive inte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90720" y="617760"/>
            <a:ext cx="71625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 N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           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O + 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143000"/>
            <a:ext cx="7617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reaction by the rate of appearance of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said to 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' =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Prop BT"/>
                <a:ea typeface="SymbolProp BT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O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k'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re are 2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2 x Rate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 k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2 x k'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k = 2 x k'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990720" y="617760"/>
            <a:ext cx="716256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 N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           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O + O</a:t>
            </a:r>
            <a:r>
              <a:rPr b="0" lang="en-US" sz="4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143000"/>
            <a:ext cx="761760" cy="0"/>
          </a:xfrm>
          <a:prstGeom prst="line">
            <a:avLst/>
          </a:prstGeom>
          <a:ln w="255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Rate law - describes how rate depends on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Rate Law - Describes how concentration depends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type of differential rate law there is an integrated rate law and vice ver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laws can help us better understand reaction mech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termining 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is to determine the form of the rate law (especially its ord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determined from experimental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2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         4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verse reaction won’t play a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9568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295280"/>
            <a:ext cx="7391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(mol/L)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Rate (mol/L(s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90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45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use the following equation to sole the order of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for m to get the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3526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3526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18760" y="1166400"/>
            <a:ext cx="799164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rate at twice the concentration is twice as fast the rate law must be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-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Prop BT"/>
                <a:ea typeface="SymbolProp BT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N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5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k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y this reaction is first order in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way to determine order is to run the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method of Initial Ra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thod requires that a reaction be run several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l concentrations of the reactants are var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rate is measured just after the reactants are m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s the effect of the revers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Conc. of A at t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Conc. of A at t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</a:t>
            </a:r>
            <a:r>
              <a:rPr b="1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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A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n concentration per uni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2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5791320"/>
            <a:ext cx="10666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590920"/>
            <a:ext cx="5181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5 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3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eneral form of the Rate Law is 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experimental data to determine the values of n,m,and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14840" y="255276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0040" y="685800"/>
            <a:ext cx="452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itial concentrations (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8040" y="1403280"/>
            <a:ext cx="197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e (M/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00240" y="2400480"/>
            <a:ext cx="111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5800" y="1971720"/>
            <a:ext cx="1486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00560" y="2000160"/>
            <a:ext cx="11858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00760" y="2000160"/>
            <a:ext cx="1143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1520" y="1042920"/>
            <a:ext cx="6223680" cy="754200"/>
            <a:chOff x="371520" y="1042920"/>
            <a:chExt cx="6223680" cy="754200"/>
          </a:xfrm>
        </p:grpSpPr>
        <p:grpSp>
          <p:nvGrpSpPr>
            <p:cNvPr id="134" name=""/>
            <p:cNvGrpSpPr/>
            <p:nvPr/>
          </p:nvGrpSpPr>
          <p:grpSpPr>
            <a:xfrm>
              <a:off x="371520" y="1042920"/>
              <a:ext cx="3114360" cy="744120"/>
              <a:chOff x="371520" y="1042920"/>
              <a:chExt cx="3114360" cy="744120"/>
            </a:xfrm>
          </p:grpSpPr>
          <p:sp>
            <p:nvSpPr>
              <p:cNvPr id="135" name=""/>
              <p:cNvSpPr/>
              <p:nvPr/>
            </p:nvSpPr>
            <p:spPr>
              <a:xfrm>
                <a:off x="371520" y="1042920"/>
                <a:ext cx="3114360" cy="39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89" y="9257"/>
                    </a:moveTo>
                    <a:arcTo wR="10800" hR="10800" stAng="-492762" swAng="58927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89" y="9257"/>
                    </a:moveTo>
                    <a:arcTo wR="10800" hR="10800" stAng="-492762" swAng="5892762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73280" y="1444680"/>
                <a:ext cx="513720" cy="34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87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8780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481560" y="1054080"/>
              <a:ext cx="3113640" cy="743040"/>
              <a:chOff x="3481560" y="1054080"/>
              <a:chExt cx="3113640" cy="743040"/>
            </a:xfrm>
          </p:grpSpPr>
          <p:sp>
            <p:nvSpPr>
              <p:cNvPr id="138" name=""/>
              <p:cNvSpPr/>
              <p:nvPr/>
            </p:nvSpPr>
            <p:spPr>
              <a:xfrm>
                <a:off x="3481560" y="1054080"/>
                <a:ext cx="3113640" cy="39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8922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892262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81520" y="1454040"/>
                <a:ext cx="514080" cy="34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3" y="0"/>
                    </a:moveTo>
                    <a:arcTo wR="10800" hR="10800" stAng="-5421220" swAng="54212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3" y="0"/>
                    </a:moveTo>
                    <a:arcTo wR="10800" hR="10800" stAng="-5421220" swAng="5421220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390600" y="2581200"/>
            <a:ext cx="842004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6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71560" y="4871520"/>
            <a:ext cx="748656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w we have to see how the rate changes with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tegrated Rate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he reaction concentration as a function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of the equation depends on the order of the rate law (differenti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   Rate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only work with n=0, 1, 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4495680"/>
            <a:ext cx="1143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   2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4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found the Rate = k[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oncentration doubles rate dou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integrate this equation with respect to time we get the Integrated Rat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[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- kt + ln[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initial concen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1600200"/>
            <a:ext cx="6098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   Rate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= k[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[A] = - kt + ln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form y = mx +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aph of ln[A] vs time is a straigh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etting the straight line you can prove it is firs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expressed in a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etting the straight line you can prove it is firs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expressed in a rat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irst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89240" y="3657600"/>
                <a:ext cx="275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295280" y="541008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required to reach half the original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reaction is firs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 when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required to reach half the original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reaction is first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 when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960640" y="3505320"/>
                <a:ext cx="275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51040" y="4868640"/>
            <a:ext cx="7524720" cy="64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2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(2) = k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693/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to reach half the original concentration does not depend on the starting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fin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gresses the concentratio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e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4419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ond Orde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rate l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[A] = kt + 1/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aight line if 1/[A] vs t is grap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k and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can calculate [A] at any time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9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ond Order Half Lif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2 at 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4038480"/>
                <a:ext cx="3429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666880" y="2514600"/>
                <a:ext cx="2743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Zero Order Rate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does not change with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 [A] = -kt +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[A] = 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2   t =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2 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2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ten when reaction happens on a surface because the surface area stays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applies to enzyme chemi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Zero Order Rate Law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20880" y="692280"/>
            <a:ext cx="7759440" cy="4787640"/>
          </a:xfrm>
          <a:prstGeom prst="rect">
            <a:avLst/>
          </a:prstGeom>
          <a:solidFill>
            <a:srgbClr val="fafd00"/>
          </a:solidFill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5627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85800"/>
            <a:ext cx="304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219320"/>
            <a:ext cx="7772400" cy="320040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44560" y="692280"/>
            <a:ext cx="7759800" cy="4787640"/>
          </a:xfrm>
          <a:prstGeom prst="rect">
            <a:avLst/>
          </a:prstGeom>
          <a:solidFill>
            <a:srgbClr val="fafd00"/>
          </a:solidFill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55627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85800"/>
            <a:ext cx="3049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219320"/>
            <a:ext cx="7772400" cy="320040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1828800"/>
            <a:ext cx="0" cy="144792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276720"/>
            <a:ext cx="350532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60020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</a:t>
            </a: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A]/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342900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1600200"/>
            <a:ext cx="175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k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51460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</a:t>
            </a:r>
            <a:r>
              <a:rPr b="1" lang="en-US" sz="2400" spc="-1" strike="noStrike">
                <a:solidFill>
                  <a:srgbClr val="00279f"/>
                </a:solidFill>
                <a:latin typeface="Century Schoolbook"/>
              </a:rPr>
              <a:t>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ore Complicated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5 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3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ction we found the rate law to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nvestigate this reaction rate we need to control the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1981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433440"/>
            <a:ext cx="71629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et up the experiment so that two of the reactants are in large ex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.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.0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.0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ceeds 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changes noticeab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and 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do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9140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ate law can be rewr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= k[B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Br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= k’[Br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k’ = k[B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called a pseudo first order rate l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"/>
              </a:rPr>
              <a:t>k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k’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Br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14040" y="433440"/>
            <a:ext cx="71629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B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B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 of Rate Law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age 294 in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gresses the concentration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es down 1/3 a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2160" y="-381240"/>
            <a:ext cx="1463004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419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cf0e3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ies of steps that actually occur in a chemical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tics can tell us something about the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lanced equation does not tell us how the reactants becom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sed mechanism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 + 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 +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medi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 formed then consumed in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8288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5053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 two reactions is called an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elementary ste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e for a reaction can be written from its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molecularity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ity is the number of pieces that must com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85800" y="875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 Mechanis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ni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 involves one molecule - Rate is first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i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 - requires two molecules - Rate is second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r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- requires three molecules - Rate is third or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ermolecu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ps are almost never heard of because the chances of three molecules coming into contact at the same time are minis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1760" y="7621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A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A      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B       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[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A+B      Products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+B       Products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+B+C      Produc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= k[A][B][C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06668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16765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2895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4290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39625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45720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to get rid of intermedia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reactions that form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 the reactions are fast and irreversible - the concentration of the intermediate is based on stoichiome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formed by a reversible reaction set the rates equ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ed in reversible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NO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2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N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2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O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[NO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=k[NO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19810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00400" y="2992320"/>
            <a:ext cx="108108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733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298240" y="3139560"/>
            <a:ext cx="108108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ormed in fast reac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IB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+ B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 + Br         I 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l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+ 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IBr][Br] but [Br]= [IBr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= k[IBr][IBr] = k[IBr]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9810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12408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7339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2670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llision theor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ust collide to re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 affects rates because collisions are more lik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collide hard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and rate are re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small number of collisions produce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55720" y="838080"/>
            <a:ext cx="769608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5943600"/>
            <a:ext cx="70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0400" y="1738440"/>
            <a:ext cx="724392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9456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eaction progresses the concentration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e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2160" y="-381240"/>
            <a:ext cx="1463004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4419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2767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[N</a:t>
            </a:r>
            <a:r>
              <a:rPr b="0" lang="en-US" sz="3200" spc="-1" strike="noStrike" baseline="-25000">
                <a:solidFill>
                  <a:srgbClr val="cf0e3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2160" y="4192560"/>
            <a:ext cx="1463004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92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9254"/>
              </a:path>
            </a:pathLst>
          </a:custGeom>
          <a:noFill/>
          <a:ln cap="rnd" w="255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334120"/>
            <a:ext cx="12193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</a:rPr>
              <a:t>[NH</a:t>
            </a:r>
            <a:r>
              <a:rPr b="0" lang="en-US" sz="3200" spc="-1" strike="noStrike" baseline="-25000">
                <a:solidFill>
                  <a:srgbClr val="00dfca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dfca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5720" y="838080"/>
            <a:ext cx="769608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943600"/>
            <a:ext cx="70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1738440"/>
            <a:ext cx="724392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9456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60880" y="1736640"/>
            <a:ext cx="0" cy="225108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60880" y="2673360"/>
            <a:ext cx="1708200" cy="279360"/>
          </a:xfrm>
          <a:prstGeom prst="line">
            <a:avLst/>
          </a:prstGeom>
          <a:ln w="25560">
            <a:solidFill>
              <a:srgbClr val="e84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37400" y="2197080"/>
            <a:ext cx="2925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4400"/>
                </a:solidFill>
                <a:latin typeface="Courier New"/>
              </a:rPr>
              <a:t>Activation Energy E</a:t>
            </a:r>
            <a:r>
              <a:rPr b="1" lang="en-US" sz="3200" spc="-1" strike="noStrike" baseline="-25000">
                <a:solidFill>
                  <a:srgbClr val="e844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55720" y="838080"/>
            <a:ext cx="769608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5943600"/>
            <a:ext cx="70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60400" y="1738440"/>
            <a:ext cx="724392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456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9400" y="933480"/>
            <a:ext cx="28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ated co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88840" y="838080"/>
            <a:ext cx="7696440" cy="5181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436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8760" y="5943600"/>
            <a:ext cx="701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3880" y="1738440"/>
            <a:ext cx="724356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c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2768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4003560"/>
            <a:ext cx="5600520" cy="0"/>
          </a:xfrm>
          <a:prstGeom prst="line">
            <a:avLst/>
          </a:prstGeom>
          <a:ln w="25560">
            <a:solidFill>
              <a:srgbClr val="e84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54880" y="4395960"/>
            <a:ext cx="7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44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e84400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430440"/>
            <a:ext cx="4093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e84400"/>
                </a:solidFill>
                <a:latin typeface="Courier New"/>
              </a:rPr>
              <a:t>}</a:t>
            </a:r>
            <a:endParaRPr b="0" lang="en-US" sz="1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88840" y="439560"/>
            <a:ext cx="7607520" cy="55803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360" y="1066680"/>
            <a:ext cx="30492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28760" y="5943600"/>
            <a:ext cx="701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eaction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93880" y="1738440"/>
            <a:ext cx="7243560" cy="3581280"/>
          </a:xfrm>
          <a:custGeom>
            <a:avLst/>
            <a:gdLst/>
            <a:ahLst/>
            <a:rect l="l" t="t" r="r" b="b"/>
            <a:pathLst>
              <a:path w="4563" h="2256">
                <a:moveTo>
                  <a:pt x="0" y="1427"/>
                </a:moveTo>
                <a:lnTo>
                  <a:pt x="952" y="1427"/>
                </a:lnTo>
                <a:lnTo>
                  <a:pt x="1066" y="1406"/>
                </a:lnTo>
                <a:lnTo>
                  <a:pt x="1159" y="1365"/>
                </a:lnTo>
                <a:lnTo>
                  <a:pt x="1241" y="1283"/>
                </a:lnTo>
                <a:lnTo>
                  <a:pt x="1314" y="1231"/>
                </a:lnTo>
                <a:lnTo>
                  <a:pt x="1397" y="1086"/>
                </a:lnTo>
                <a:lnTo>
                  <a:pt x="1448" y="993"/>
                </a:lnTo>
                <a:lnTo>
                  <a:pt x="1531" y="838"/>
                </a:lnTo>
                <a:lnTo>
                  <a:pt x="1614" y="672"/>
                </a:lnTo>
                <a:lnTo>
                  <a:pt x="1748" y="414"/>
                </a:lnTo>
                <a:lnTo>
                  <a:pt x="1904" y="134"/>
                </a:lnTo>
                <a:lnTo>
                  <a:pt x="2007" y="41"/>
                </a:lnTo>
                <a:lnTo>
                  <a:pt x="2090" y="0"/>
                </a:lnTo>
                <a:lnTo>
                  <a:pt x="2162" y="20"/>
                </a:lnTo>
                <a:lnTo>
                  <a:pt x="2214" y="52"/>
                </a:lnTo>
                <a:lnTo>
                  <a:pt x="2255" y="103"/>
                </a:lnTo>
                <a:lnTo>
                  <a:pt x="2286" y="145"/>
                </a:lnTo>
                <a:lnTo>
                  <a:pt x="2659" y="993"/>
                </a:lnTo>
                <a:lnTo>
                  <a:pt x="2814" y="1282"/>
                </a:lnTo>
                <a:lnTo>
                  <a:pt x="3052" y="1686"/>
                </a:lnTo>
                <a:lnTo>
                  <a:pt x="3135" y="1831"/>
                </a:lnTo>
                <a:lnTo>
                  <a:pt x="3228" y="1975"/>
                </a:lnTo>
                <a:lnTo>
                  <a:pt x="3341" y="2058"/>
                </a:lnTo>
                <a:lnTo>
                  <a:pt x="3445" y="2151"/>
                </a:lnTo>
                <a:lnTo>
                  <a:pt x="3528" y="2193"/>
                </a:lnTo>
                <a:lnTo>
                  <a:pt x="3610" y="2213"/>
                </a:lnTo>
                <a:lnTo>
                  <a:pt x="3735" y="2255"/>
                </a:lnTo>
                <a:lnTo>
                  <a:pt x="4562" y="2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0400" y="35607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B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27680" y="4813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NO + 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41760" y="57456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4400"/>
                </a:solidFill>
                <a:latin typeface="Courier New"/>
              </a:rPr>
              <a:t>Br---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78120" y="1384200"/>
            <a:ext cx="198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4400"/>
                </a:solidFill>
                <a:latin typeface="Courier New"/>
              </a:rPr>
              <a:t>Br---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65680" y="915840"/>
            <a:ext cx="17280" cy="559080"/>
          </a:xfrm>
          <a:prstGeom prst="line">
            <a:avLst/>
          </a:prstGeom>
          <a:ln w="25560">
            <a:solidFill>
              <a:srgbClr val="e84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4959360"/>
            <a:ext cx="60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89440" y="1752480"/>
            <a:ext cx="24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4400"/>
                </a:solidFill>
                <a:latin typeface="Courier New"/>
              </a:rPr>
              <a:t>Transition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76800" y="1736640"/>
            <a:ext cx="1412640" cy="411120"/>
          </a:xfrm>
          <a:prstGeom prst="line">
            <a:avLst/>
          </a:prstGeom>
          <a:ln w="255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- the minimum energy needed to make a reaction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ed Complex or Transition State - The arrangement of atoms at the top of the energy barr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rrheni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 reaction rate should increase with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 more molecules have the energy required to get over the barr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ollisions with the necessary energy increases exponent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rrheniu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collisions with the required 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energy = 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= total coll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is Euler’s number (opposite of l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= ideal gas con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is temperature in Ke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d rate is less than the number of collisions that have the minimum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Molecular ori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into equation as p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eric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405080" y="741240"/>
            <a:ext cx="558720" cy="597600"/>
            <a:chOff x="1405080" y="741240"/>
            <a:chExt cx="558720" cy="597600"/>
          </a:xfrm>
        </p:grpSpPr>
        <p:sp>
          <p:nvSpPr>
            <p:cNvPr id="283" name=""/>
            <p:cNvSpPr/>
            <p:nvPr/>
          </p:nvSpPr>
          <p:spPr>
            <a:xfrm>
              <a:off x="1405080" y="741240"/>
              <a:ext cx="558720" cy="55908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87520" y="75888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390680" y="1266840"/>
            <a:ext cx="590400" cy="558720"/>
            <a:chOff x="1390680" y="1266840"/>
            <a:chExt cx="590400" cy="558720"/>
          </a:xfrm>
        </p:grpSpPr>
        <p:sp>
          <p:nvSpPr>
            <p:cNvPr id="286" name=""/>
            <p:cNvSpPr/>
            <p:nvPr/>
          </p:nvSpPr>
          <p:spPr>
            <a:xfrm>
              <a:off x="1390680" y="126684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93280" y="129384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24080" y="1709640"/>
            <a:ext cx="871560" cy="754200"/>
            <a:chOff x="1324080" y="1709640"/>
            <a:chExt cx="871560" cy="754200"/>
          </a:xfrm>
        </p:grpSpPr>
        <p:sp>
          <p:nvSpPr>
            <p:cNvPr id="289" name=""/>
            <p:cNvSpPr/>
            <p:nvPr/>
          </p:nvSpPr>
          <p:spPr>
            <a:xfrm>
              <a:off x="1324080" y="1709640"/>
              <a:ext cx="80460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55840" y="182232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706840" y="731880"/>
            <a:ext cx="558720" cy="597240"/>
            <a:chOff x="2706840" y="731880"/>
            <a:chExt cx="558720" cy="597240"/>
          </a:xfrm>
        </p:grpSpPr>
        <p:sp>
          <p:nvSpPr>
            <p:cNvPr id="292" name=""/>
            <p:cNvSpPr/>
            <p:nvPr/>
          </p:nvSpPr>
          <p:spPr>
            <a:xfrm>
              <a:off x="2706840" y="73188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9280" y="749160"/>
              <a:ext cx="393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692440" y="1257480"/>
            <a:ext cx="590400" cy="558720"/>
            <a:chOff x="2692440" y="1257480"/>
            <a:chExt cx="590400" cy="558720"/>
          </a:xfrm>
        </p:grpSpPr>
        <p:sp>
          <p:nvSpPr>
            <p:cNvPr id="295" name=""/>
            <p:cNvSpPr/>
            <p:nvPr/>
          </p:nvSpPr>
          <p:spPr>
            <a:xfrm>
              <a:off x="2692440" y="125748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95040" y="128412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625840" y="1700280"/>
            <a:ext cx="871560" cy="753840"/>
            <a:chOff x="2625840" y="1700280"/>
            <a:chExt cx="871560" cy="753840"/>
          </a:xfrm>
        </p:grpSpPr>
        <p:sp>
          <p:nvSpPr>
            <p:cNvPr id="298" name=""/>
            <p:cNvSpPr/>
            <p:nvPr/>
          </p:nvSpPr>
          <p:spPr>
            <a:xfrm>
              <a:off x="2625840" y="1700280"/>
              <a:ext cx="804600" cy="75384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57600" y="181296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075040" y="211464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11760" y="795240"/>
            <a:ext cx="558720" cy="597600"/>
            <a:chOff x="5711760" y="795240"/>
            <a:chExt cx="558720" cy="597600"/>
          </a:xfrm>
        </p:grpSpPr>
        <p:sp>
          <p:nvSpPr>
            <p:cNvPr id="302" name=""/>
            <p:cNvSpPr/>
            <p:nvPr/>
          </p:nvSpPr>
          <p:spPr>
            <a:xfrm>
              <a:off x="5711760" y="79524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4200" y="81288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697360" y="1320840"/>
            <a:ext cx="590760" cy="558720"/>
            <a:chOff x="5697360" y="1320840"/>
            <a:chExt cx="590760" cy="558720"/>
          </a:xfrm>
        </p:grpSpPr>
        <p:sp>
          <p:nvSpPr>
            <p:cNvPr id="305" name=""/>
            <p:cNvSpPr/>
            <p:nvPr/>
          </p:nvSpPr>
          <p:spPr>
            <a:xfrm>
              <a:off x="5697360" y="1320840"/>
              <a:ext cx="59076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99960" y="134784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630760" y="1763640"/>
            <a:ext cx="871560" cy="754200"/>
            <a:chOff x="5630760" y="1763640"/>
            <a:chExt cx="871560" cy="754200"/>
          </a:xfrm>
        </p:grpSpPr>
        <p:sp>
          <p:nvSpPr>
            <p:cNvPr id="308" name=""/>
            <p:cNvSpPr/>
            <p:nvPr/>
          </p:nvSpPr>
          <p:spPr>
            <a:xfrm>
              <a:off x="5630760" y="1763640"/>
              <a:ext cx="80496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2520" y="187632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013520" y="785880"/>
            <a:ext cx="558720" cy="597240"/>
            <a:chOff x="7013520" y="785880"/>
            <a:chExt cx="558720" cy="597240"/>
          </a:xfrm>
        </p:grpSpPr>
        <p:sp>
          <p:nvSpPr>
            <p:cNvPr id="311" name=""/>
            <p:cNvSpPr/>
            <p:nvPr/>
          </p:nvSpPr>
          <p:spPr>
            <a:xfrm>
              <a:off x="7013520" y="78588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95960" y="80316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999120" y="1311120"/>
            <a:ext cx="590760" cy="559080"/>
            <a:chOff x="6999120" y="1311120"/>
            <a:chExt cx="590760" cy="559080"/>
          </a:xfrm>
        </p:grpSpPr>
        <p:sp>
          <p:nvSpPr>
            <p:cNvPr id="314" name=""/>
            <p:cNvSpPr/>
            <p:nvPr/>
          </p:nvSpPr>
          <p:spPr>
            <a:xfrm>
              <a:off x="6999120" y="1311120"/>
              <a:ext cx="590760" cy="55908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01720" y="133812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932520" y="1754280"/>
            <a:ext cx="871560" cy="753840"/>
            <a:chOff x="6932520" y="1754280"/>
            <a:chExt cx="871560" cy="753840"/>
          </a:xfrm>
        </p:grpSpPr>
        <p:sp>
          <p:nvSpPr>
            <p:cNvPr id="317" name=""/>
            <p:cNvSpPr/>
            <p:nvPr/>
          </p:nvSpPr>
          <p:spPr>
            <a:xfrm>
              <a:off x="6932520" y="1754280"/>
              <a:ext cx="804960" cy="75384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64280" y="186696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932280" y="1770120"/>
            <a:ext cx="1379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92000" y="3048120"/>
            <a:ext cx="1756080" cy="753840"/>
            <a:chOff x="792000" y="3048120"/>
            <a:chExt cx="1756080" cy="753840"/>
          </a:xfrm>
        </p:grpSpPr>
        <p:grpSp>
          <p:nvGrpSpPr>
            <p:cNvPr id="321" name=""/>
            <p:cNvGrpSpPr/>
            <p:nvPr/>
          </p:nvGrpSpPr>
          <p:grpSpPr>
            <a:xfrm>
              <a:off x="792000" y="3200400"/>
              <a:ext cx="559080" cy="597600"/>
              <a:chOff x="792000" y="3200400"/>
              <a:chExt cx="559080" cy="597600"/>
            </a:xfrm>
          </p:grpSpPr>
          <p:sp>
            <p:nvSpPr>
              <p:cNvPr id="322" name=""/>
              <p:cNvSpPr/>
              <p:nvPr/>
            </p:nvSpPr>
            <p:spPr>
              <a:xfrm>
                <a:off x="792000" y="3200400"/>
                <a:ext cx="559080" cy="558720"/>
              </a:xfrm>
              <a:prstGeom prst="ellipse">
                <a:avLst/>
              </a:prstGeom>
              <a:solidFill>
                <a:srgbClr val="e8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4800" y="3218040"/>
                <a:ext cx="393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282680" y="3218040"/>
              <a:ext cx="590400" cy="558720"/>
              <a:chOff x="1282680" y="3218040"/>
              <a:chExt cx="590400" cy="558720"/>
            </a:xfrm>
          </p:grpSpPr>
          <p:sp>
            <p:nvSpPr>
              <p:cNvPr id="325" name=""/>
              <p:cNvSpPr/>
              <p:nvPr/>
            </p:nvSpPr>
            <p:spPr>
              <a:xfrm>
                <a:off x="1282680" y="3218040"/>
                <a:ext cx="590400" cy="558720"/>
              </a:xfrm>
              <a:prstGeom prst="ellips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85280" y="3244680"/>
                <a:ext cx="398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676520" y="3048120"/>
              <a:ext cx="871560" cy="753840"/>
              <a:chOff x="1676520" y="3048120"/>
              <a:chExt cx="871560" cy="75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1676520" y="3048120"/>
                <a:ext cx="804600" cy="753840"/>
              </a:xfrm>
              <a:prstGeom prst="ellips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8280" y="3160800"/>
                <a:ext cx="739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B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4145040" y="3035160"/>
            <a:ext cx="558720" cy="597600"/>
            <a:chOff x="4145040" y="3035160"/>
            <a:chExt cx="558720" cy="597600"/>
          </a:xfrm>
        </p:grpSpPr>
        <p:sp>
          <p:nvSpPr>
            <p:cNvPr id="331" name=""/>
            <p:cNvSpPr/>
            <p:nvPr/>
          </p:nvSpPr>
          <p:spPr>
            <a:xfrm>
              <a:off x="4145040" y="3035160"/>
              <a:ext cx="558720" cy="55908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27480" y="305280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22680" y="3056040"/>
            <a:ext cx="590400" cy="558720"/>
            <a:chOff x="3622680" y="3056040"/>
            <a:chExt cx="590400" cy="558720"/>
          </a:xfrm>
        </p:grpSpPr>
        <p:sp>
          <p:nvSpPr>
            <p:cNvPr id="334" name=""/>
            <p:cNvSpPr/>
            <p:nvPr/>
          </p:nvSpPr>
          <p:spPr>
            <a:xfrm>
              <a:off x="3622680" y="305604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5280" y="308304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948040" y="3027240"/>
            <a:ext cx="871560" cy="754200"/>
            <a:chOff x="2948040" y="3027240"/>
            <a:chExt cx="871560" cy="754200"/>
          </a:xfrm>
        </p:grpSpPr>
        <p:sp>
          <p:nvSpPr>
            <p:cNvPr id="337" name=""/>
            <p:cNvSpPr/>
            <p:nvPr/>
          </p:nvSpPr>
          <p:spPr>
            <a:xfrm>
              <a:off x="2948040" y="3027240"/>
              <a:ext cx="80496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313992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343240" y="346536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566120" y="2924280"/>
            <a:ext cx="558720" cy="597240"/>
            <a:chOff x="7566120" y="2924280"/>
            <a:chExt cx="558720" cy="597240"/>
          </a:xfrm>
        </p:grpSpPr>
        <p:sp>
          <p:nvSpPr>
            <p:cNvPr id="341" name=""/>
            <p:cNvSpPr/>
            <p:nvPr/>
          </p:nvSpPr>
          <p:spPr>
            <a:xfrm>
              <a:off x="7566120" y="292428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48560" y="294156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043760" y="2944800"/>
            <a:ext cx="590400" cy="558720"/>
            <a:chOff x="7043760" y="2944800"/>
            <a:chExt cx="590400" cy="558720"/>
          </a:xfrm>
        </p:grpSpPr>
        <p:sp>
          <p:nvSpPr>
            <p:cNvPr id="344" name=""/>
            <p:cNvSpPr/>
            <p:nvPr/>
          </p:nvSpPr>
          <p:spPr>
            <a:xfrm>
              <a:off x="7043760" y="294480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46360" y="297180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727600" y="2817720"/>
            <a:ext cx="871560" cy="754200"/>
            <a:chOff x="5727600" y="2817720"/>
            <a:chExt cx="871560" cy="754200"/>
          </a:xfrm>
        </p:grpSpPr>
        <p:sp>
          <p:nvSpPr>
            <p:cNvPr id="347" name=""/>
            <p:cNvSpPr/>
            <p:nvPr/>
          </p:nvSpPr>
          <p:spPr>
            <a:xfrm>
              <a:off x="5727600" y="2817720"/>
              <a:ext cx="80496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59360" y="293040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054920" y="3666960"/>
            <a:ext cx="558720" cy="597600"/>
            <a:chOff x="7054920" y="3666960"/>
            <a:chExt cx="558720" cy="597600"/>
          </a:xfrm>
        </p:grpSpPr>
        <p:sp>
          <p:nvSpPr>
            <p:cNvPr id="350" name=""/>
            <p:cNvSpPr/>
            <p:nvPr/>
          </p:nvSpPr>
          <p:spPr>
            <a:xfrm>
              <a:off x="7054920" y="3666960"/>
              <a:ext cx="558720" cy="55908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37360" y="368460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545240" y="3684600"/>
            <a:ext cx="590760" cy="558720"/>
            <a:chOff x="7545240" y="3684600"/>
            <a:chExt cx="590760" cy="558720"/>
          </a:xfrm>
        </p:grpSpPr>
        <p:sp>
          <p:nvSpPr>
            <p:cNvPr id="353" name=""/>
            <p:cNvSpPr/>
            <p:nvPr/>
          </p:nvSpPr>
          <p:spPr>
            <a:xfrm>
              <a:off x="7545240" y="3684600"/>
              <a:ext cx="59076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47840" y="371160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737320" y="3495600"/>
            <a:ext cx="871560" cy="754200"/>
            <a:chOff x="5737320" y="3495600"/>
            <a:chExt cx="871560" cy="754200"/>
          </a:xfrm>
        </p:grpSpPr>
        <p:sp>
          <p:nvSpPr>
            <p:cNvPr id="356" name=""/>
            <p:cNvSpPr/>
            <p:nvPr/>
          </p:nvSpPr>
          <p:spPr>
            <a:xfrm>
              <a:off x="5737320" y="3495600"/>
              <a:ext cx="804600" cy="75420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69080" y="360828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816440" y="3478320"/>
            <a:ext cx="855720" cy="172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914560" y="4579920"/>
            <a:ext cx="1755720" cy="754200"/>
            <a:chOff x="2914560" y="4579920"/>
            <a:chExt cx="1755720" cy="754200"/>
          </a:xfrm>
        </p:grpSpPr>
        <p:grpSp>
          <p:nvGrpSpPr>
            <p:cNvPr id="360" name=""/>
            <p:cNvGrpSpPr/>
            <p:nvPr/>
          </p:nvGrpSpPr>
          <p:grpSpPr>
            <a:xfrm>
              <a:off x="2914560" y="4732200"/>
              <a:ext cx="558720" cy="597600"/>
              <a:chOff x="2914560" y="4732200"/>
              <a:chExt cx="558720" cy="597600"/>
            </a:xfrm>
          </p:grpSpPr>
          <p:sp>
            <p:nvSpPr>
              <p:cNvPr id="361" name=""/>
              <p:cNvSpPr/>
              <p:nvPr/>
            </p:nvSpPr>
            <p:spPr>
              <a:xfrm>
                <a:off x="2914560" y="4732200"/>
                <a:ext cx="558720" cy="559080"/>
              </a:xfrm>
              <a:prstGeom prst="ellipse">
                <a:avLst/>
              </a:prstGeom>
              <a:solidFill>
                <a:srgbClr val="e8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97360" y="4749840"/>
                <a:ext cx="393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405240" y="4749840"/>
              <a:ext cx="590400" cy="558720"/>
              <a:chOff x="3405240" y="4749840"/>
              <a:chExt cx="590400" cy="558720"/>
            </a:xfrm>
          </p:grpSpPr>
          <p:sp>
            <p:nvSpPr>
              <p:cNvPr id="364" name=""/>
              <p:cNvSpPr/>
              <p:nvPr/>
            </p:nvSpPr>
            <p:spPr>
              <a:xfrm>
                <a:off x="3405240" y="4749840"/>
                <a:ext cx="590400" cy="558720"/>
              </a:xfrm>
              <a:prstGeom prst="ellipse">
                <a:avLst/>
              </a:pr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507480" y="4776840"/>
                <a:ext cx="398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798720" y="4579920"/>
              <a:ext cx="871560" cy="754200"/>
              <a:chOff x="3798720" y="4579920"/>
              <a:chExt cx="871560" cy="75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3798720" y="4579920"/>
                <a:ext cx="804960" cy="754200"/>
              </a:xfrm>
              <a:prstGeom prst="ellipse">
                <a:avLst/>
              </a:prstGeom>
              <a:solidFill>
                <a:srgbClr val="ff8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30480" y="4692600"/>
                <a:ext cx="739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B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1851120" y="4683240"/>
            <a:ext cx="558720" cy="597240"/>
            <a:chOff x="1851120" y="4683240"/>
            <a:chExt cx="558720" cy="597240"/>
          </a:xfrm>
        </p:grpSpPr>
        <p:sp>
          <p:nvSpPr>
            <p:cNvPr id="370" name=""/>
            <p:cNvSpPr/>
            <p:nvPr/>
          </p:nvSpPr>
          <p:spPr>
            <a:xfrm>
              <a:off x="1851120" y="4683240"/>
              <a:ext cx="558720" cy="558720"/>
            </a:xfrm>
            <a:prstGeom prst="ellipse">
              <a:avLst/>
            </a:prstGeom>
            <a:solidFill>
              <a:srgbClr val="e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33560" y="4700520"/>
              <a:ext cx="3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328760" y="4703760"/>
            <a:ext cx="590400" cy="558720"/>
            <a:chOff x="1328760" y="4703760"/>
            <a:chExt cx="590400" cy="558720"/>
          </a:xfrm>
        </p:grpSpPr>
        <p:sp>
          <p:nvSpPr>
            <p:cNvPr id="373" name=""/>
            <p:cNvSpPr/>
            <p:nvPr/>
          </p:nvSpPr>
          <p:spPr>
            <a:xfrm>
              <a:off x="1328760" y="4703760"/>
              <a:ext cx="590400" cy="5587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31360" y="4730760"/>
              <a:ext cx="398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54120" y="4675320"/>
            <a:ext cx="871560" cy="753840"/>
            <a:chOff x="654120" y="4675320"/>
            <a:chExt cx="871560" cy="753840"/>
          </a:xfrm>
        </p:grpSpPr>
        <p:sp>
          <p:nvSpPr>
            <p:cNvPr id="376" name=""/>
            <p:cNvSpPr/>
            <p:nvPr/>
          </p:nvSpPr>
          <p:spPr>
            <a:xfrm>
              <a:off x="654120" y="4675320"/>
              <a:ext cx="804960" cy="753840"/>
            </a:xfrm>
            <a:prstGeom prst="ellipse">
              <a:avLst/>
            </a:prstGeom>
            <a:solidFill>
              <a:srgbClr val="ff82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5880" y="4788000"/>
              <a:ext cx="73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775040" y="5108400"/>
            <a:ext cx="1379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5360" y="4808520"/>
            <a:ext cx="224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fca"/>
                </a:solidFill>
                <a:latin typeface="Courier New"/>
              </a:rPr>
              <a:t>No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48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rrhenius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k = zp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T 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= 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is called the frequency factor = z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k = -(E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R)(1/T) + ln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k vs t is a straigh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Ra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rates are taken over long interv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taneous rates are determined by finding the slope of a line tangent to the curve at any given point because the rate can change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iv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echanisms  and rates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activation energy for each elementary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ation energy determines 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= Ae</a:t>
            </a:r>
            <a:r>
              <a:rPr b="0" lang="en-US" sz="4100" spc="-1" strike="noStrike" baseline="30000">
                <a:solidFill>
                  <a:srgbClr val="ffffff"/>
                </a:solidFill>
                <a:latin typeface="Arial"/>
              </a:rPr>
              <a:t>- (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100" spc="-1" strike="noStrike" baseline="30000">
                <a:solidFill>
                  <a:srgbClr val="ffffff"/>
                </a:solidFill>
                <a:latin typeface="Arial"/>
              </a:rPr>
              <a:t>/RT)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 determines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est step (rate determining) must have the highest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452556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afd00"/>
              </a:buClr>
              <a:buSzPct val="75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This reaction takes place in three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11520" y="2306520"/>
            <a:ext cx="79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2743200"/>
            <a:ext cx="0" cy="1157400"/>
          </a:xfrm>
          <a:prstGeom prst="line">
            <a:avLst/>
          </a:prstGeom>
          <a:ln w="25560">
            <a:solidFill>
              <a:srgbClr val="e844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71880" y="2979720"/>
            <a:ext cx="8636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e844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43460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Arial"/>
              </a:rPr>
              <a:t>First step i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Arial"/>
              </a:rPr>
              <a:t>Low activ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Second step is slow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High activation energ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89480" y="681120"/>
            <a:ext cx="79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22840" y="1076400"/>
            <a:ext cx="0" cy="2766960"/>
          </a:xfrm>
          <a:prstGeom prst="line">
            <a:avLst/>
          </a:prstGeom>
          <a:ln w="25560">
            <a:solidFill>
              <a:srgbClr val="e844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84680" y="2143080"/>
            <a:ext cx="8636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e844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26360" y="2340000"/>
            <a:ext cx="79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4400"/>
              </a:buClr>
              <a:buSzPct val="250000"/>
              <a:buFont typeface="Animal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93200" y="2752560"/>
            <a:ext cx="0" cy="482760"/>
          </a:xfrm>
          <a:prstGeom prst="line">
            <a:avLst/>
          </a:prstGeom>
          <a:ln w="25560">
            <a:solidFill>
              <a:srgbClr val="e844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53240" y="2684520"/>
            <a:ext cx="86364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4400"/>
                </a:solidFill>
                <a:latin typeface="Book Antiqua"/>
              </a:rPr>
              <a:t>E</a:t>
            </a:r>
            <a:r>
              <a:rPr b="0" lang="en-US" sz="4400" spc="-1" strike="noStrike" baseline="-25000">
                <a:solidFill>
                  <a:srgbClr val="e84400"/>
                </a:solidFill>
                <a:latin typeface="Book Antiqu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Third step is fas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Low activation energ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34960" y="4165560"/>
            <a:ext cx="7456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Second step is rate determining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86280" y="5315040"/>
            <a:ext cx="52941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Intermediates are presen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51320" y="3700440"/>
            <a:ext cx="770040" cy="152568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154480" y="3273480"/>
            <a:ext cx="1741680" cy="193680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457200"/>
            <a:ext cx="8305920" cy="57150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58680" y="1047600"/>
            <a:ext cx="8033040" cy="3516480"/>
          </a:xfrm>
          <a:custGeom>
            <a:avLst/>
            <a:gdLst/>
            <a:ahLst/>
            <a:rect l="l" t="t" r="r" b="b"/>
            <a:pathLst>
              <a:path w="5060" h="2215">
                <a:moveTo>
                  <a:pt x="0" y="1769"/>
                </a:moveTo>
                <a:lnTo>
                  <a:pt x="455" y="1769"/>
                </a:lnTo>
                <a:lnTo>
                  <a:pt x="652" y="1759"/>
                </a:lnTo>
                <a:lnTo>
                  <a:pt x="740" y="1692"/>
                </a:lnTo>
                <a:lnTo>
                  <a:pt x="828" y="1603"/>
                </a:lnTo>
                <a:lnTo>
                  <a:pt x="1028" y="1260"/>
                </a:lnTo>
                <a:lnTo>
                  <a:pt x="1097" y="1138"/>
                </a:lnTo>
                <a:lnTo>
                  <a:pt x="1220" y="1068"/>
                </a:lnTo>
                <a:lnTo>
                  <a:pt x="1335" y="1045"/>
                </a:lnTo>
                <a:lnTo>
                  <a:pt x="1460" y="1068"/>
                </a:lnTo>
                <a:lnTo>
                  <a:pt x="1604" y="1212"/>
                </a:lnTo>
                <a:lnTo>
                  <a:pt x="1676" y="1366"/>
                </a:lnTo>
                <a:lnTo>
                  <a:pt x="1759" y="1490"/>
                </a:lnTo>
                <a:lnTo>
                  <a:pt x="1893" y="1583"/>
                </a:lnTo>
                <a:lnTo>
                  <a:pt x="2036" y="1644"/>
                </a:lnTo>
                <a:lnTo>
                  <a:pt x="2180" y="1644"/>
                </a:lnTo>
                <a:lnTo>
                  <a:pt x="2286" y="1562"/>
                </a:lnTo>
                <a:lnTo>
                  <a:pt x="2328" y="1479"/>
                </a:lnTo>
                <a:lnTo>
                  <a:pt x="2369" y="1407"/>
                </a:lnTo>
                <a:lnTo>
                  <a:pt x="2400" y="1303"/>
                </a:lnTo>
                <a:lnTo>
                  <a:pt x="2473" y="1117"/>
                </a:lnTo>
                <a:lnTo>
                  <a:pt x="2597" y="641"/>
                </a:lnTo>
                <a:lnTo>
                  <a:pt x="2648" y="424"/>
                </a:lnTo>
                <a:lnTo>
                  <a:pt x="2710" y="228"/>
                </a:lnTo>
                <a:lnTo>
                  <a:pt x="2742" y="134"/>
                </a:lnTo>
                <a:lnTo>
                  <a:pt x="2793" y="52"/>
                </a:lnTo>
                <a:lnTo>
                  <a:pt x="2876" y="0"/>
                </a:lnTo>
                <a:lnTo>
                  <a:pt x="2948" y="0"/>
                </a:lnTo>
                <a:lnTo>
                  <a:pt x="3031" y="10"/>
                </a:lnTo>
                <a:lnTo>
                  <a:pt x="3104" y="72"/>
                </a:lnTo>
                <a:lnTo>
                  <a:pt x="3155" y="166"/>
                </a:lnTo>
                <a:lnTo>
                  <a:pt x="3176" y="269"/>
                </a:lnTo>
                <a:lnTo>
                  <a:pt x="3279" y="714"/>
                </a:lnTo>
                <a:lnTo>
                  <a:pt x="3362" y="1055"/>
                </a:lnTo>
                <a:lnTo>
                  <a:pt x="3455" y="1221"/>
                </a:lnTo>
                <a:lnTo>
                  <a:pt x="3610" y="1376"/>
                </a:lnTo>
                <a:lnTo>
                  <a:pt x="3683" y="1397"/>
                </a:lnTo>
                <a:lnTo>
                  <a:pt x="3786" y="1386"/>
                </a:lnTo>
                <a:lnTo>
                  <a:pt x="3910" y="1334"/>
                </a:lnTo>
                <a:lnTo>
                  <a:pt x="4045" y="1190"/>
                </a:lnTo>
                <a:lnTo>
                  <a:pt x="4107" y="1117"/>
                </a:lnTo>
                <a:lnTo>
                  <a:pt x="4148" y="1055"/>
                </a:lnTo>
                <a:lnTo>
                  <a:pt x="4210" y="1034"/>
                </a:lnTo>
                <a:lnTo>
                  <a:pt x="4262" y="1045"/>
                </a:lnTo>
                <a:lnTo>
                  <a:pt x="4335" y="1066"/>
                </a:lnTo>
                <a:lnTo>
                  <a:pt x="4397" y="1128"/>
                </a:lnTo>
                <a:lnTo>
                  <a:pt x="4469" y="1293"/>
                </a:lnTo>
                <a:lnTo>
                  <a:pt x="4500" y="1438"/>
                </a:lnTo>
                <a:lnTo>
                  <a:pt x="4531" y="1645"/>
                </a:lnTo>
                <a:lnTo>
                  <a:pt x="4562" y="1810"/>
                </a:lnTo>
                <a:lnTo>
                  <a:pt x="4635" y="2028"/>
                </a:lnTo>
                <a:lnTo>
                  <a:pt x="4738" y="2214"/>
                </a:lnTo>
                <a:lnTo>
                  <a:pt x="5059" y="2214"/>
                </a:lnTo>
              </a:path>
            </a:pathLst>
          </a:custGeom>
          <a:noFill/>
          <a:ln cap="rnd"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11360" y="4202280"/>
            <a:ext cx="5096160" cy="1122120"/>
          </a:xfrm>
          <a:prstGeom prst="rect">
            <a:avLst/>
          </a:prstGeom>
          <a:noFill/>
          <a:ln w="1260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84400"/>
                </a:solidFill>
                <a:latin typeface="Book Antiqua"/>
              </a:rPr>
              <a:t>Activated Complexes or Transition Stat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86280" y="2781360"/>
            <a:ext cx="869760" cy="14097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07000" y="1090440"/>
            <a:ext cx="14400" cy="303696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222680" y="2781360"/>
            <a:ext cx="544680" cy="1427040"/>
          </a:xfrm>
          <a:prstGeom prst="line">
            <a:avLst/>
          </a:prstGeom>
          <a:ln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up a reaction without being used up in th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s are biological cataly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omogenous Catalys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in the same phase as the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Heterogeneous Catalys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in a different phase as the reac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Catalysts Work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allow reactions to proceed by a different mechanism - a new path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athway has a lower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molecules will have this activation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hange </a:t>
            </a:r>
            <a:r>
              <a:rPr b="0" lang="en-US" sz="3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slope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200400"/>
            <a:ext cx="152280" cy="15228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352680"/>
            <a:ext cx="0" cy="137160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23880" y="4724280"/>
            <a:ext cx="19814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809880"/>
            <a:ext cx="12189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800600"/>
            <a:ext cx="1218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425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82720" y="1949400"/>
            <a:ext cx="996840" cy="542520"/>
            <a:chOff x="882720" y="1949400"/>
            <a:chExt cx="996840" cy="542520"/>
          </a:xfrm>
        </p:grpSpPr>
        <p:grpSp>
          <p:nvGrpSpPr>
            <p:cNvPr id="430" name=""/>
            <p:cNvGrpSpPr/>
            <p:nvPr/>
          </p:nvGrpSpPr>
          <p:grpSpPr>
            <a:xfrm>
              <a:off x="1339920" y="1949400"/>
              <a:ext cx="539640" cy="542520"/>
              <a:chOff x="1339920" y="1949400"/>
              <a:chExt cx="539640" cy="542520"/>
            </a:xfrm>
          </p:grpSpPr>
          <p:sp>
            <p:nvSpPr>
              <p:cNvPr id="431" name=""/>
              <p:cNvSpPr/>
              <p:nvPr/>
            </p:nvSpPr>
            <p:spPr>
              <a:xfrm>
                <a:off x="13399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86000" y="1976400"/>
                <a:ext cx="4093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882720" y="1949400"/>
              <a:ext cx="539640" cy="542520"/>
              <a:chOff x="882720" y="1949400"/>
              <a:chExt cx="539640" cy="542520"/>
            </a:xfrm>
          </p:grpSpPr>
          <p:sp>
            <p:nvSpPr>
              <p:cNvPr id="434" name=""/>
              <p:cNvSpPr/>
              <p:nvPr/>
            </p:nvSpPr>
            <p:spPr>
              <a:xfrm>
                <a:off x="882720" y="1949400"/>
                <a:ext cx="539640" cy="52092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28800" y="1976400"/>
                <a:ext cx="4093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7207200" y="2540160"/>
            <a:ext cx="996840" cy="542520"/>
            <a:chOff x="7207200" y="2540160"/>
            <a:chExt cx="996840" cy="542520"/>
          </a:xfrm>
        </p:grpSpPr>
        <p:grpSp>
          <p:nvGrpSpPr>
            <p:cNvPr id="437" name=""/>
            <p:cNvGrpSpPr/>
            <p:nvPr/>
          </p:nvGrpSpPr>
          <p:grpSpPr>
            <a:xfrm>
              <a:off x="7664400" y="2540160"/>
              <a:ext cx="539640" cy="542520"/>
              <a:chOff x="7664400" y="2540160"/>
              <a:chExt cx="539640" cy="542520"/>
            </a:xfrm>
          </p:grpSpPr>
          <p:sp>
            <p:nvSpPr>
              <p:cNvPr id="438" name=""/>
              <p:cNvSpPr/>
              <p:nvPr/>
            </p:nvSpPr>
            <p:spPr>
              <a:xfrm>
                <a:off x="76644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10480" y="2567160"/>
                <a:ext cx="4096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207200" y="2540160"/>
              <a:ext cx="539640" cy="542520"/>
              <a:chOff x="7207200" y="2540160"/>
              <a:chExt cx="539640" cy="542520"/>
            </a:xfrm>
          </p:grpSpPr>
          <p:sp>
            <p:nvSpPr>
              <p:cNvPr id="441" name=""/>
              <p:cNvSpPr/>
              <p:nvPr/>
            </p:nvSpPr>
            <p:spPr>
              <a:xfrm>
                <a:off x="7207200" y="2540160"/>
                <a:ext cx="539640" cy="520560"/>
              </a:xfrm>
              <a:prstGeom prst="ellipse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253280" y="2567160"/>
                <a:ext cx="4096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444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447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452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455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571840"/>
            <a:ext cx="4997520" cy="21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ydrogen bonds to surface of me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Break H-H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463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468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471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476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479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11480" y="2787480"/>
            <a:ext cx="863640" cy="806760"/>
            <a:chOff x="3111480" y="2787480"/>
            <a:chExt cx="863640" cy="806760"/>
          </a:xfrm>
        </p:grpSpPr>
        <p:sp>
          <p:nvSpPr>
            <p:cNvPr id="485" name=""/>
            <p:cNvSpPr/>
            <p:nvPr/>
          </p:nvSpPr>
          <p:spPr>
            <a:xfrm>
              <a:off x="3111480" y="2787480"/>
              <a:ext cx="863640" cy="806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90760" y="289080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2502000" y="30481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15880" y="323856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40160" y="32767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59120" y="320040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197240" y="2921040"/>
            <a:ext cx="540000" cy="542520"/>
            <a:chOff x="4197240" y="2921040"/>
            <a:chExt cx="540000" cy="542520"/>
          </a:xfrm>
        </p:grpSpPr>
        <p:sp>
          <p:nvSpPr>
            <p:cNvPr id="492" name=""/>
            <p:cNvSpPr/>
            <p:nvPr/>
          </p:nvSpPr>
          <p:spPr>
            <a:xfrm>
              <a:off x="419724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43320" y="29480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035000" y="2940120"/>
            <a:ext cx="539640" cy="542520"/>
            <a:chOff x="1035000" y="2940120"/>
            <a:chExt cx="539640" cy="542520"/>
          </a:xfrm>
        </p:grpSpPr>
        <p:sp>
          <p:nvSpPr>
            <p:cNvPr id="495" name=""/>
            <p:cNvSpPr/>
            <p:nvPr/>
          </p:nvSpPr>
          <p:spPr>
            <a:xfrm>
              <a:off x="1035000" y="29401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81080" y="29671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841400" y="2813040"/>
            <a:ext cx="851040" cy="793800"/>
            <a:chOff x="1841400" y="2813040"/>
            <a:chExt cx="851040" cy="793800"/>
          </a:xfrm>
        </p:grpSpPr>
        <p:sp>
          <p:nvSpPr>
            <p:cNvPr id="498" name=""/>
            <p:cNvSpPr/>
            <p:nvPr/>
          </p:nvSpPr>
          <p:spPr>
            <a:xfrm>
              <a:off x="1841400" y="281304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14560" y="290988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2228760" y="241272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524400" y="2451240"/>
            <a:ext cx="0" cy="583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44680" y="2044800"/>
            <a:ext cx="540000" cy="542520"/>
            <a:chOff x="3244680" y="2044800"/>
            <a:chExt cx="540000" cy="542520"/>
          </a:xfrm>
        </p:grpSpPr>
        <p:sp>
          <p:nvSpPr>
            <p:cNvPr id="503" name=""/>
            <p:cNvSpPr/>
            <p:nvPr/>
          </p:nvSpPr>
          <p:spPr>
            <a:xfrm>
              <a:off x="3244680" y="204480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90760" y="20718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968480" y="2044800"/>
            <a:ext cx="539640" cy="542520"/>
            <a:chOff x="1968480" y="2044800"/>
            <a:chExt cx="539640" cy="542520"/>
          </a:xfrm>
        </p:grpSpPr>
        <p:sp>
          <p:nvSpPr>
            <p:cNvPr id="506" name=""/>
            <p:cNvSpPr/>
            <p:nvPr/>
          </p:nvSpPr>
          <p:spPr>
            <a:xfrm>
              <a:off x="1968480" y="204480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4560" y="20718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510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515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518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523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526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532" name="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81480" y="388152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492360" y="40384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06600" y="42292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49840" y="41911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187960" y="3911760"/>
            <a:ext cx="539640" cy="542520"/>
            <a:chOff x="5187960" y="3911760"/>
            <a:chExt cx="539640" cy="542520"/>
          </a:xfrm>
        </p:grpSpPr>
        <p:sp>
          <p:nvSpPr>
            <p:cNvPr id="538" name="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34040" y="39387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025720" y="3930480"/>
            <a:ext cx="539640" cy="542520"/>
            <a:chOff x="2025720" y="3930480"/>
            <a:chExt cx="539640" cy="542520"/>
          </a:xfrm>
        </p:grpSpPr>
        <p:sp>
          <p:nvSpPr>
            <p:cNvPr id="541" name="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71800" y="395748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544" name="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05280" y="3900600"/>
              <a:ext cx="618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 flipV="1">
            <a:off x="3219480" y="340308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514760" y="34412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235400" y="3035160"/>
            <a:ext cx="539640" cy="542520"/>
            <a:chOff x="4235400" y="3035160"/>
            <a:chExt cx="539640" cy="542520"/>
          </a:xfrm>
        </p:grpSpPr>
        <p:sp>
          <p:nvSpPr>
            <p:cNvPr id="549" name="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81480" y="30621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959200" y="3035160"/>
            <a:ext cx="539640" cy="542520"/>
            <a:chOff x="2959200" y="3035160"/>
            <a:chExt cx="539640" cy="542520"/>
          </a:xfrm>
        </p:grpSpPr>
        <p:sp>
          <p:nvSpPr>
            <p:cNvPr id="552" name="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05280" y="306216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 flipV="1">
            <a:off x="3276720" y="44510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533840" y="439380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double bond breaks and bonds to the cataly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559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559560" y="3778200"/>
            <a:ext cx="539640" cy="542520"/>
            <a:chOff x="6559560" y="3778200"/>
            <a:chExt cx="539640" cy="542520"/>
          </a:xfrm>
        </p:grpSpPr>
        <p:sp>
          <p:nvSpPr>
            <p:cNvPr id="564" name=""/>
            <p:cNvSpPr/>
            <p:nvPr/>
          </p:nvSpPr>
          <p:spPr>
            <a:xfrm>
              <a:off x="6559560" y="377820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05640" y="380520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969160" y="3625920"/>
            <a:ext cx="539640" cy="542520"/>
            <a:chOff x="5969160" y="3625920"/>
            <a:chExt cx="539640" cy="542520"/>
          </a:xfrm>
        </p:grpSpPr>
        <p:sp>
          <p:nvSpPr>
            <p:cNvPr id="567" name=""/>
            <p:cNvSpPr/>
            <p:nvPr/>
          </p:nvSpPr>
          <p:spPr>
            <a:xfrm>
              <a:off x="5969160" y="3625920"/>
              <a:ext cx="53964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880" y="36529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19840" y="434988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873080" y="4654440"/>
            <a:ext cx="540000" cy="542520"/>
            <a:chOff x="1873080" y="4654440"/>
            <a:chExt cx="540000" cy="542520"/>
          </a:xfrm>
        </p:grpSpPr>
        <p:sp>
          <p:nvSpPr>
            <p:cNvPr id="572" name=""/>
            <p:cNvSpPr/>
            <p:nvPr/>
          </p:nvSpPr>
          <p:spPr>
            <a:xfrm>
              <a:off x="1873080" y="465444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19160" y="46814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575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33720" y="5226120"/>
            <a:ext cx="0" cy="311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102200" y="3778200"/>
            <a:ext cx="863640" cy="806400"/>
            <a:chOff x="4102200" y="3778200"/>
            <a:chExt cx="863640" cy="806400"/>
          </a:xfrm>
        </p:grpSpPr>
        <p:sp>
          <p:nvSpPr>
            <p:cNvPr id="581" name=""/>
            <p:cNvSpPr/>
            <p:nvPr/>
          </p:nvSpPr>
          <p:spPr>
            <a:xfrm>
              <a:off x="4102200" y="377820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81480" y="388152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492360" y="40384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06600" y="422928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49840" y="419112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187960" y="3911760"/>
            <a:ext cx="539640" cy="542520"/>
            <a:chOff x="5187960" y="3911760"/>
            <a:chExt cx="539640" cy="542520"/>
          </a:xfrm>
        </p:grpSpPr>
        <p:sp>
          <p:nvSpPr>
            <p:cNvPr id="587" name=""/>
            <p:cNvSpPr/>
            <p:nvPr/>
          </p:nvSpPr>
          <p:spPr>
            <a:xfrm>
              <a:off x="5187960" y="391176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34040" y="39387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025720" y="3930480"/>
            <a:ext cx="539640" cy="542520"/>
            <a:chOff x="2025720" y="3930480"/>
            <a:chExt cx="539640" cy="542520"/>
          </a:xfrm>
        </p:grpSpPr>
        <p:sp>
          <p:nvSpPr>
            <p:cNvPr id="590" name=""/>
            <p:cNvSpPr/>
            <p:nvPr/>
          </p:nvSpPr>
          <p:spPr>
            <a:xfrm>
              <a:off x="2025720" y="393048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71800" y="395748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832120" y="3803760"/>
            <a:ext cx="851040" cy="793800"/>
            <a:chOff x="2832120" y="3803760"/>
            <a:chExt cx="851040" cy="793800"/>
          </a:xfrm>
        </p:grpSpPr>
        <p:sp>
          <p:nvSpPr>
            <p:cNvPr id="593" name=""/>
            <p:cNvSpPr/>
            <p:nvPr/>
          </p:nvSpPr>
          <p:spPr>
            <a:xfrm>
              <a:off x="2832120" y="38037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05280" y="3900600"/>
              <a:ext cx="618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 flipV="1">
            <a:off x="3219480" y="340308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514760" y="34412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235400" y="3035160"/>
            <a:ext cx="539640" cy="542520"/>
            <a:chOff x="4235400" y="3035160"/>
            <a:chExt cx="539640" cy="542520"/>
          </a:xfrm>
        </p:grpSpPr>
        <p:sp>
          <p:nvSpPr>
            <p:cNvPr id="598" name=""/>
            <p:cNvSpPr/>
            <p:nvPr/>
          </p:nvSpPr>
          <p:spPr>
            <a:xfrm>
              <a:off x="42354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81480" y="30621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959200" y="3035160"/>
            <a:ext cx="539640" cy="542520"/>
            <a:chOff x="2959200" y="3035160"/>
            <a:chExt cx="539640" cy="542520"/>
          </a:xfrm>
        </p:grpSpPr>
        <p:sp>
          <p:nvSpPr>
            <p:cNvPr id="601" name=""/>
            <p:cNvSpPr/>
            <p:nvPr/>
          </p:nvSpPr>
          <p:spPr>
            <a:xfrm>
              <a:off x="2959200" y="3035160"/>
              <a:ext cx="53964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05280" y="3062160"/>
              <a:ext cx="409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flipV="1">
            <a:off x="3276720" y="44510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533840" y="439380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096040" cy="13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 hydrogen atoms bond with the carb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0800000">
            <a:off x="4511160" y="3043440"/>
            <a:ext cx="2310840" cy="22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" y="8659"/>
                </a:moveTo>
                <a:arcTo wR="10800" hR="10800" stAng="-10114093" swAng="8773727"/>
                <a:lnTo>
                  <a:pt x="10800" y="10800"/>
                </a:lnTo>
                <a:close/>
              </a:path>
              <a:path fill="none" w="21600" h="21600">
                <a:moveTo>
                  <a:pt x="214" y="8659"/>
                </a:moveTo>
                <a:arcTo wR="10800" hR="10800" stAng="-10114093" swAng="8773727"/>
              </a:path>
            </a:pathLst>
          </a:custGeom>
          <a:noFill/>
          <a:ln cap="rnd" w="50760">
            <a:solidFill>
              <a:srgbClr val="e8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0800000">
            <a:off x="2102040" y="3296160"/>
            <a:ext cx="1172520" cy="266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1223"/>
                </a:moveTo>
                <a:arcTo wR="10800" hR="10800" stAng="10665438" swAng="9362289"/>
                <a:lnTo>
                  <a:pt x="10800" y="10800"/>
                </a:lnTo>
                <a:close/>
              </a:path>
              <a:path fill="none" w="21600" h="21600">
                <a:moveTo>
                  <a:pt x="8" y="11223"/>
                </a:moveTo>
                <a:arcTo wR="10800" hR="10800" stAng="10665438" swAng="9362289"/>
              </a:path>
            </a:pathLst>
          </a:custGeom>
          <a:noFill/>
          <a:ln cap="rnd" w="50760">
            <a:solidFill>
              <a:srgbClr val="e844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54160" y="1511280"/>
            <a:ext cx="8692920" cy="45784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819000" y="4224240"/>
            <a:ext cx="7145640" cy="1560600"/>
            <a:chOff x="819000" y="4224240"/>
            <a:chExt cx="7145640" cy="1560600"/>
          </a:xfrm>
        </p:grpSpPr>
        <p:sp>
          <p:nvSpPr>
            <p:cNvPr id="610" name=""/>
            <p:cNvSpPr/>
            <p:nvPr/>
          </p:nvSpPr>
          <p:spPr>
            <a:xfrm>
              <a:off x="819000" y="4224240"/>
              <a:ext cx="7145640" cy="1511280"/>
            </a:xfrm>
            <a:custGeom>
              <a:avLst/>
              <a:gdLst/>
              <a:ahLst/>
              <a:rect l="l" t="t" r="r" b="b"/>
              <a:pathLst>
                <a:path w="4501" h="952">
                  <a:moveTo>
                    <a:pt x="0" y="951"/>
                  </a:moveTo>
                  <a:lnTo>
                    <a:pt x="1516" y="0"/>
                  </a:lnTo>
                  <a:lnTo>
                    <a:pt x="4500" y="0"/>
                  </a:lnTo>
                  <a:lnTo>
                    <a:pt x="3015" y="931"/>
                  </a:lnTo>
                  <a:lnTo>
                    <a:pt x="18" y="93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65080" y="5716440"/>
              <a:ext cx="474516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00880" y="4229280"/>
              <a:ext cx="2358720" cy="1549080"/>
            </a:xfrm>
            <a:custGeom>
              <a:avLst/>
              <a:gdLst/>
              <a:ahLst/>
              <a:rect l="l" t="t" r="r" b="b"/>
              <a:pathLst>
                <a:path w="1486" h="976">
                  <a:moveTo>
                    <a:pt x="1485" y="0"/>
                  </a:moveTo>
                  <a:lnTo>
                    <a:pt x="0" y="936"/>
                  </a:lnTo>
                  <a:lnTo>
                    <a:pt x="0" y="975"/>
                  </a:lnTo>
                  <a:lnTo>
                    <a:pt x="1485" y="23"/>
                  </a:lnTo>
                  <a:lnTo>
                    <a:pt x="1485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481560" y="5176800"/>
            <a:ext cx="21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Book Antiqua"/>
              </a:rPr>
              <a:t>P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286680" y="419724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187280" y="4749840"/>
            <a:ext cx="540000" cy="542520"/>
            <a:chOff x="1187280" y="4749840"/>
            <a:chExt cx="540000" cy="542520"/>
          </a:xfrm>
        </p:grpSpPr>
        <p:sp>
          <p:nvSpPr>
            <p:cNvPr id="616" name=""/>
            <p:cNvSpPr/>
            <p:nvPr/>
          </p:nvSpPr>
          <p:spPr>
            <a:xfrm>
              <a:off x="1187280" y="474984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33360" y="47768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504800" y="5321160"/>
            <a:ext cx="0" cy="311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eter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006800" y="2768760"/>
            <a:ext cx="863640" cy="806400"/>
            <a:chOff x="4006800" y="2768760"/>
            <a:chExt cx="863640" cy="806400"/>
          </a:xfrm>
        </p:grpSpPr>
        <p:sp>
          <p:nvSpPr>
            <p:cNvPr id="621" name=""/>
            <p:cNvSpPr/>
            <p:nvPr/>
          </p:nvSpPr>
          <p:spPr>
            <a:xfrm>
              <a:off x="4006800" y="2768760"/>
              <a:ext cx="863640" cy="806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86080" y="287172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3454560" y="320040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11560" y="3219480"/>
            <a:ext cx="71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54440" y="3181320"/>
            <a:ext cx="711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092560" y="2901960"/>
            <a:ext cx="540000" cy="542520"/>
            <a:chOff x="5092560" y="2901960"/>
            <a:chExt cx="540000" cy="542520"/>
          </a:xfrm>
        </p:grpSpPr>
        <p:sp>
          <p:nvSpPr>
            <p:cNvPr id="627" name=""/>
            <p:cNvSpPr/>
            <p:nvPr/>
          </p:nvSpPr>
          <p:spPr>
            <a:xfrm>
              <a:off x="5092560" y="290196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8640" y="292896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930320" y="2921040"/>
            <a:ext cx="540000" cy="542520"/>
            <a:chOff x="1930320" y="2921040"/>
            <a:chExt cx="540000" cy="542520"/>
          </a:xfrm>
        </p:grpSpPr>
        <p:sp>
          <p:nvSpPr>
            <p:cNvPr id="630" name=""/>
            <p:cNvSpPr/>
            <p:nvPr/>
          </p:nvSpPr>
          <p:spPr>
            <a:xfrm>
              <a:off x="1930320" y="2921040"/>
              <a:ext cx="54000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76400" y="294804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36720" y="2793960"/>
            <a:ext cx="851040" cy="793800"/>
            <a:chOff x="2736720" y="2793960"/>
            <a:chExt cx="851040" cy="793800"/>
          </a:xfrm>
        </p:grpSpPr>
        <p:sp>
          <p:nvSpPr>
            <p:cNvPr id="633" name=""/>
            <p:cNvSpPr/>
            <p:nvPr/>
          </p:nvSpPr>
          <p:spPr>
            <a:xfrm>
              <a:off x="2736720" y="2793960"/>
              <a:ext cx="851040" cy="793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9880" y="2890800"/>
              <a:ext cx="619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Book Antiqua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3124080" y="23936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4419720" y="2432160"/>
            <a:ext cx="0" cy="583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140360" y="2025720"/>
            <a:ext cx="539640" cy="542520"/>
            <a:chOff x="4140360" y="2025720"/>
            <a:chExt cx="539640" cy="542520"/>
          </a:xfrm>
        </p:grpSpPr>
        <p:sp>
          <p:nvSpPr>
            <p:cNvPr id="638" name=""/>
            <p:cNvSpPr/>
            <p:nvPr/>
          </p:nvSpPr>
          <p:spPr>
            <a:xfrm>
              <a:off x="414036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86080" y="20527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2863800" y="2025720"/>
            <a:ext cx="539640" cy="542520"/>
            <a:chOff x="2863800" y="2025720"/>
            <a:chExt cx="539640" cy="542520"/>
          </a:xfrm>
        </p:grpSpPr>
        <p:sp>
          <p:nvSpPr>
            <p:cNvPr id="641" name=""/>
            <p:cNvSpPr/>
            <p:nvPr/>
          </p:nvSpPr>
          <p:spPr>
            <a:xfrm>
              <a:off x="2863800" y="202572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09880" y="20527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3181320" y="3441240"/>
            <a:ext cx="0" cy="584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438800" y="3384720"/>
            <a:ext cx="0" cy="583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178160" y="3759120"/>
            <a:ext cx="540000" cy="542520"/>
            <a:chOff x="4178160" y="3759120"/>
            <a:chExt cx="540000" cy="542520"/>
          </a:xfrm>
        </p:grpSpPr>
        <p:sp>
          <p:nvSpPr>
            <p:cNvPr id="646" name=""/>
            <p:cNvSpPr/>
            <p:nvPr/>
          </p:nvSpPr>
          <p:spPr>
            <a:xfrm>
              <a:off x="4178160" y="3759120"/>
              <a:ext cx="540000" cy="520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24240" y="37861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006960" y="3759120"/>
            <a:ext cx="540000" cy="542520"/>
            <a:chOff x="6006960" y="3759120"/>
            <a:chExt cx="540000" cy="542520"/>
          </a:xfrm>
        </p:grpSpPr>
        <p:sp>
          <p:nvSpPr>
            <p:cNvPr id="649" name=""/>
            <p:cNvSpPr/>
            <p:nvPr/>
          </p:nvSpPr>
          <p:spPr>
            <a:xfrm>
              <a:off x="6006960" y="3759120"/>
              <a:ext cx="540000" cy="515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53040" y="378612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901960" y="3797280"/>
            <a:ext cx="539640" cy="542520"/>
            <a:chOff x="2901960" y="3797280"/>
            <a:chExt cx="539640" cy="542520"/>
          </a:xfrm>
        </p:grpSpPr>
        <p:sp>
          <p:nvSpPr>
            <p:cNvPr id="652" name=""/>
            <p:cNvSpPr/>
            <p:nvPr/>
          </p:nvSpPr>
          <p:spPr>
            <a:xfrm>
              <a:off x="2901960" y="3797280"/>
              <a:ext cx="539640" cy="520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48040" y="3824280"/>
              <a:ext cx="40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Book Antiqua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mogenous Catalys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ofluorocarbons catalyze the decomposition of o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s regulating the body processes. (Protein cataly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875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 and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s will speed up a reaction but only to a certain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a certain point adding more reactants won’t change the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talysts and rate.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1333440"/>
            <a:ext cx="7562880" cy="42102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71800" y="5500800"/>
            <a:ext cx="652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centration of reac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0680" y="2319480"/>
            <a:ext cx="31428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10800000">
            <a:off x="914400" y="2508480"/>
            <a:ext cx="7073640" cy="610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17600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176003"/>
              </a:path>
            </a:pathLst>
          </a:custGeom>
          <a:noFill/>
          <a:ln cap="rnd" w="507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2514600"/>
            <a:ext cx="4216320" cy="0"/>
          </a:xfrm>
          <a:prstGeom prst="line">
            <a:avLst/>
          </a:prstGeom>
          <a:ln w="50760">
            <a:solidFill>
              <a:srgbClr val="e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47480" y="3276360"/>
            <a:ext cx="6838920" cy="215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Rate increases until the active sites of catalyst are fil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hen rate is independent of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taneous slop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6840" y="1758960"/>
            <a:ext cx="7302600" cy="433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680" y="1828800"/>
            <a:ext cx="244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75280" y="614844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-2113560"/>
            <a:ext cx="16001640" cy="78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7" y="21559"/>
                </a:moveTo>
                <a:arcTo wR="10800" hR="10800" stAng="5700565" swAng="5160298"/>
                <a:lnTo>
                  <a:pt x="10800" y="10800"/>
                </a:lnTo>
                <a:close/>
              </a:path>
              <a:path fill="none" w="21600" h="21600">
                <a:moveTo>
                  <a:pt x="9857" y="21559"/>
                </a:moveTo>
                <a:arcTo wR="10800" hR="10800" stAng="5700565" swAng="5160298"/>
              </a:path>
            </a:pathLst>
          </a:custGeom>
          <a:noFill/>
          <a:ln cap="rnd"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419720"/>
            <a:ext cx="121932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79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[H</a:t>
            </a:r>
            <a:r>
              <a:rPr b="0" lang="en-US" sz="3200" spc="-1" strike="noStrike" u="sng" baseline="-25000">
                <a:solidFill>
                  <a:srgbClr val="00279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SymbolProp BT"/>
                <a:ea typeface="SymbolProp BT"/>
              </a:rPr>
              <a:t>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962520"/>
            <a:ext cx="228600" cy="22860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2210040" cy="152388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71028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fining Rat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define rate in terms of the disappearance of the reactant or in terms of the rate of appearance of th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ur 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N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H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[NH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4956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03:16:54Z</dcterms:created>
  <dc:creator>Thomas V. Green Jr.</dc:creator>
  <dc:description/>
  <dc:language>en-US</dc:language>
  <cp:lastModifiedBy>FPS</cp:lastModifiedBy>
  <dcterms:modified xsi:type="dcterms:W3CDTF">2008-10-27T13:01:28Z</dcterms:modified>
  <cp:revision>16</cp:revision>
  <dc:subject/>
  <dc:title>Kinetics</dc:title>
</cp:coreProperties>
</file>